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727B-9F14-445D-BA25-6227A06FF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866B-0A41-4739-B112-4C816A07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FA3A-DA38-4152-8923-5C584BD52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4F75-A86E-49F3-85CE-C27504318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CED4-6877-4762-9492-D55CACE7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03A6-FD9B-4A9D-84E1-B902D0B6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F15F-4A4A-4C22-832B-324C92B1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D1D2-DADE-4F47-B3F8-08356482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99FD-F2BE-4477-BC9E-E42D9032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B0BF-A7BE-46F2-91C0-E698A6CB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3AE5-0D15-460D-BE61-FAED99E1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4D36-E6B2-4B14-A0CE-7A3EACF8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F433-A32C-4ADF-B94F-3DCE937A9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8972640" cy="6727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72640" cy="67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Řešení rozšířením vstupů o předchozí stav výstupu Yp (S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50920" y="836640"/>
          <a:ext cx="3230640" cy="58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836640"/>
                    <a:ext cx="323064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2873520" y="1754280"/>
            <a:ext cx="633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73520" y="1754280"/>
            <a:ext cx="633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73520" y="1754280"/>
            <a:ext cx="633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3520" y="1754280"/>
            <a:ext cx="633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73520" y="1754280"/>
            <a:ext cx="633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0280"/>
            <a:ext cx="40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Times New Roman"/>
              </a:rPr>
              <a:t>Rozšířená tabulka o vstup V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476280"/>
            <a:ext cx="33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ůvodní pravdivostní tabul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484360" y="4653000"/>
            <a:ext cx="432000" cy="2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484360" y="4869000"/>
            <a:ext cx="432000" cy="21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484360" y="5084640"/>
            <a:ext cx="432000" cy="2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484360" y="5373720"/>
            <a:ext cx="432000" cy="21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484360" y="5589720"/>
            <a:ext cx="432000" cy="21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132000" y="5734080"/>
            <a:ext cx="503280" cy="71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708360" y="4436640"/>
            <a:ext cx="0" cy="129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484360" y="4365720"/>
            <a:ext cx="1224000" cy="21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24360" y="3716280"/>
            <a:ext cx="38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03640" y="1628640"/>
            <a:ext cx="648000" cy="136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59280" y="1700280"/>
            <a:ext cx="43200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08720" y="620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-mapa  pr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40360" y="3068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=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s +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s * 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84360" y="1052640"/>
            <a:ext cx="28083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Stejné </a:t>
            </a: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kombinaci vstupních hodnot odpovídá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různá </a:t>
            </a: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hodnota výstupní veličin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Jedná se zde tedy o sekvenční logický obvo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Výstupní veličina závisí</a:t>
            </a: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 nejen na kombinaci vstupních hodnot, ale též na jejich časovém sledu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92720" y="155736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508720" y="1125360"/>
          <a:ext cx="2881080" cy="179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8720" y="1125360"/>
                    <a:ext cx="2881080" cy="17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 flipV="1">
            <a:off x="3429000" y="2590560"/>
            <a:ext cx="190512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4572000" y="4419720"/>
            <a:ext cx="3438360" cy="2152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962520" y="36576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Obvodov</a:t>
            </a: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é řešení prvky Logosof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7T15:31:42Z</dcterms:created>
  <dc:creator>Administrator</dc:creator>
  <dc:description/>
  <dc:language>en-US</dc:language>
  <cp:lastModifiedBy>Administrator</cp:lastModifiedBy>
  <dcterms:modified xsi:type="dcterms:W3CDTF">2006-02-27T15:35:57Z</dcterms:modified>
  <cp:revision>3</cp:revision>
  <dc:subject/>
  <dc:title>Snímek 1</dc:title>
</cp:coreProperties>
</file>