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068-8768-4B5E-A6AE-1EBB65AE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7BA-C422-43DB-9786-EB0C358B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D7F-E904-4E7A-9BFC-2F6E504E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EDC-02A1-49D4-B019-61657180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973C-A9B5-4D2B-A7B5-4AEBEBD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6A4-6807-4B27-9FFB-7FA6310D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7D7-5CFC-4371-A9DF-1F7C17C4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9CC6-2EF8-4C13-A2D0-5C78E3C0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11E-5585-4A64-87A4-DE788C53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282-0E5C-4427-A781-B1CE227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F37-4D93-4B56-86CD-D4C0C8FC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771-0F18-4E34-8C2E-52DADB3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9C32-36D8-433F-AE1A-8A5921D4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ynamické vlastnosti spojitých regulátor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661032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601992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é blokové schéma regulátoru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4495680"/>
          <a:ext cx="3019320" cy="158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495680"/>
                    <a:ext cx="3019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5284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05120"/>
          <a:ext cx="358128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35812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609480" y="274320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átor PID s interakcí realizovaný sériovým řízením regulátorů PD a PI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80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p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namické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hování - činno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kombinovaného regu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60020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p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ární integrodiferenciální rovnic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14400"/>
            <a:ext cx="815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) P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is chování tzv.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orcionálně-integračně-derivačního regulátoru se zpožďujícími členy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eboli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kutečného PID-regulátoru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715000"/>
            <a:ext cx="603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A) P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is chování tzv.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orcionálně-integračně-derivačního regulátoru se zpožďujícími členy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eboli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kutečného PID-regulátoru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9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B) P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pis chování tzv.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orcionálně-integračně-derivačního regulátoru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ideálního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PID-regulátoru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é konstanty zpožďujících členů položíme rovné nule (T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T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.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666880"/>
            <a:ext cx="54864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b. 1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ké vlastnosti ideálních regulátorů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1880" y="4290840"/>
            <a:ext cx="11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1880" y="4900680"/>
            <a:ext cx="11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1880" y="5510160"/>
            <a:ext cx="11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1880" y="5510160"/>
            <a:ext cx="11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6953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839080" cy="4505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G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609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kračování tabul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090880"/>
            <a:ext cx="9144000" cy="476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419720" y="533520"/>
          <a:ext cx="2514600" cy="155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533520"/>
                    <a:ext cx="251460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7391520" y="762120"/>
            <a:ext cx="1143000" cy="60948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0497" h="21600">
                <a:moveTo>
                  <a:pt x="0" y="0"/>
                </a:moveTo>
                <a:lnTo>
                  <a:pt x="40497" y="0"/>
                </a:lnTo>
                <a:lnTo>
                  <a:pt x="40497" y="21600"/>
                </a:lnTo>
                <a:lnTo>
                  <a:pt x="0" y="21600"/>
                </a:lnTo>
                <a:close/>
              </a:path>
              <a:path fill="lightenLess" w="40497" h="21600">
                <a:moveTo>
                  <a:pt x="0" y="0"/>
                </a:moveTo>
                <a:lnTo>
                  <a:pt x="40497" y="0"/>
                </a:lnTo>
                <a:lnTo>
                  <a:pt x="39097" y="1400"/>
                </a:lnTo>
                <a:lnTo>
                  <a:pt x="1400" y="1400"/>
                </a:lnTo>
                <a:close/>
              </a:path>
              <a:path fill="darken" w="40497" h="21600">
                <a:moveTo>
                  <a:pt x="40497" y="0"/>
                </a:moveTo>
                <a:lnTo>
                  <a:pt x="40497" y="21600"/>
                </a:lnTo>
                <a:lnTo>
                  <a:pt x="39097" y="20200"/>
                </a:lnTo>
                <a:lnTo>
                  <a:pt x="39097" y="1400"/>
                </a:lnTo>
                <a:close/>
              </a:path>
              <a:path fill="darkenLess" w="40497" h="21600">
                <a:moveTo>
                  <a:pt x="4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7" y="20200"/>
                </a:lnTo>
                <a:close/>
              </a:path>
              <a:path fill="lighten" w="4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7" h="21600">
                <a:moveTo>
                  <a:pt x="13242" y="3794"/>
                </a:moveTo>
                <a:lnTo>
                  <a:pt x="27255" y="10800"/>
                </a:lnTo>
                <a:lnTo>
                  <a:pt x="1324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52388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Opakování blokové algeb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. 3 Dynamické vlastnosti kombinovan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„skutečného“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D - regulátor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09044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vitelné parametry regulátor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3429000"/>
            <a:ext cx="2743200" cy="8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tegrační časová konstanta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T</a:t>
            </a:r>
            <a:r>
              <a:rPr b="1" lang="en-US" sz="16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[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862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70240" y="4038480"/>
          <a:ext cx="2603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0240" y="4038480"/>
                    <a:ext cx="2603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43600" y="3505320"/>
            <a:ext cx="274320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rivační časová konst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T</a:t>
            </a:r>
            <a:r>
              <a:rPr b="1" lang="cs-CZ" sz="16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[s]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5053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ásmo proporcionality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pp [%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576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705720" y="4038480"/>
          <a:ext cx="209556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038480"/>
                    <a:ext cx="2095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kteristika činnosti spojitých regulátor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457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-regulá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840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4647960" cy="2280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352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-regulá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5410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-čl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akce konstant regulátor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384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3505320"/>
          <a:ext cx="342900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429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56:05Z</dcterms:created>
  <dc:creator>Zdeněk</dc:creator>
  <dc:description/>
  <dc:language>en-US</dc:language>
  <cp:lastModifiedBy>Administrator</cp:lastModifiedBy>
  <dcterms:modified xsi:type="dcterms:W3CDTF">2006-03-23T13:02:46Z</dcterms:modified>
  <cp:revision>5</cp:revision>
  <dc:subject/>
  <dc:title>Prezentace aplikace PowerPoint</dc:title>
</cp:coreProperties>
</file>