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3F1-E519-4ADB-A4FB-C9AD5AC4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7C8-C265-459B-8511-73C44F5D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BD7-14F1-4808-B13B-56570522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8E6-AAA1-4D81-9759-69E18BDF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00F-0E3F-49C8-819F-60F5E7DE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DCD-7BE0-4C74-91DC-E453DD45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35C-0C79-4B19-905F-8D09383E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490-FA7F-4281-A4E8-D3F08C80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A62-5A81-443E-8E2C-F1AA20DE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FC2-ADE5-473E-890C-F110DB6A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E32-8F61-47E1-99BC-480A14F4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039C-E0C4-4181-87D3-CF004AB0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8D56-998F-454F-B3E6-D762CED89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8972640" cy="6727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72640" cy="67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ešení rozšířením vstupů o předchozí stav výstupu Yp (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50920" y="836640"/>
          <a:ext cx="32306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3230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73520" y="1754280"/>
            <a:ext cx="63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3520" y="1754280"/>
            <a:ext cx="63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3520" y="1754280"/>
            <a:ext cx="63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3520" y="1754280"/>
            <a:ext cx="63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73520" y="1754280"/>
            <a:ext cx="63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0280"/>
            <a:ext cx="40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Rozšířená tabulka o vstup 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7628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ůvodní pravdivostní tabu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484360" y="4653000"/>
            <a:ext cx="43200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484360" y="4869000"/>
            <a:ext cx="43200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484360" y="5084640"/>
            <a:ext cx="43200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84360" y="5373720"/>
            <a:ext cx="43200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484360" y="5589720"/>
            <a:ext cx="43200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132000" y="5734080"/>
            <a:ext cx="50328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708360" y="4436640"/>
            <a:ext cx="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84360" y="4365720"/>
            <a:ext cx="122400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371628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1628640"/>
            <a:ext cx="64800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1700280"/>
            <a:ext cx="4320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62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-mapa  pr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306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s +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s *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052640"/>
            <a:ext cx="28083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ejné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kombinaci vstupních hodnot odpovídá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ůzná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hodnota výstupní veliči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Jedná se zde tedy o sekvenční logický obv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ýstupní veličina závisí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 nejen na kombinaci vstupních hodnot, ale též na jejich časovém sledu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15573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508720" y="1125360"/>
          <a:ext cx="2881080" cy="17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1125360"/>
                    <a:ext cx="28810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 flipV="1">
            <a:off x="3429000" y="2590560"/>
            <a:ext cx="19051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572000" y="4419720"/>
            <a:ext cx="3438360" cy="2152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62520" y="36576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bvodov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é řešení prvky Logosof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5:31:42Z</dcterms:created>
  <dc:creator>Administrator</dc:creator>
  <dc:description/>
  <dc:language>en-US</dc:language>
  <cp:lastModifiedBy>Administrator</cp:lastModifiedBy>
  <dcterms:modified xsi:type="dcterms:W3CDTF">2006-02-27T15:35:57Z</dcterms:modified>
  <cp:revision>3</cp:revision>
  <dc:subject/>
  <dc:title>Snímek 1</dc:title>
</cp:coreProperties>
</file>